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968-CEB4-42E6-92F5-DCC7B4DB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E7F-536B-4811-AB91-5121CD14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899-8E0C-4E26-B7B3-7F45BAB1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F4F-6B52-4198-8AB2-58CECAB4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AED9-6D04-4AEA-AECF-C98188CD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C921-7AD3-45A1-B487-66A36F5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08D-9DC3-4975-AD61-BB6421D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5858-B00D-431C-94CB-921ED495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114-70BB-42EB-BBDD-53AEBBE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06D-98D4-47DD-8FC9-6AF8813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F2A8-0171-4DF6-95CA-94131B8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840-DEFF-4A65-AA2D-20BCB8A8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A455-42B6-441E-AEB2-D304F45B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9753-29F6-44D9-BFB9-23683087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200-F222-46AD-8FD0-29AA129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96AC-39F4-44A4-8B99-D3ABD3E1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AB9-1B69-4B62-B128-BCFA54A7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BCB-7225-469D-B0C7-A8D08AF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2A1-174D-4B1D-803C-D5D45D4E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7B3-BDE7-497B-8869-631197DB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6D6-396E-4499-8763-3DE40CE1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AC3-D9F7-49CE-84C3-2865DC2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E5A-F855-430D-9D5D-B49A59E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2B5-8702-4E98-9381-5C9FD49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C088-9E38-49A5-8DD1-40118F1221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92A-732A-4917-B6CA-1D3BAEDBE3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0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Выпуск листово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«Новости недели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rcRect l="16947" t="7665" r="9709" b="7888"/>
          <a:stretch/>
        </p:blipFill>
        <p:spPr>
          <a:xfrm>
            <a:off x="3276720" y="4076640"/>
            <a:ext cx="23241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549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 смех, и грех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чера вечером в Парке культуры и отдыха были слышны выстрелы. Наряд патрульно-постовой службы преследовал пытавшегося скрыться преступника Михаила С. по кличке Масте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ержание  произошло при довольно курьезных обстоятельствах. Начнем с того, что полицейские совершенно случайно столкнулись с мастером, когда подошли купить лимонад к тому же самому ларьку, где отоваривался злоумышленник. Решив, что его собираются задержать, преступник, который накануне совершил  кражу, дал стрекача. Ему почти удалось оторваться в парке от вначале оторопевших, но затем бросившихся в погоню сотрудников полиции. Однако незадачливый злодей в темноте зацепился ногой за поливочный шланг. От неожиданности у Михаила С. случился острый приступ сердечной недостаточ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йчас преступник  лежит в реанимационном отделении больницы № 4 под зорким наблюдением врачей, которые сделают все для того, чтобы поставить преступника на ноги, – он должен сполна ответить перед обществом за свои злодея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Рисунок4"/>
          <p:cNvPicPr/>
          <p:nvPr/>
        </p:nvPicPr>
        <p:blipFill>
          <a:blip r:embed="rId1"/>
          <a:stretch/>
        </p:blipFill>
        <p:spPr>
          <a:xfrm>
            <a:off x="7451640" y="5683320"/>
            <a:ext cx="1390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ажные рекоменд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24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Начинайте писать информацию с самого интересного сло­ва, лучше с неожиданной реплики, срав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Не пишите чрезмерно длинных предложений с обильной пунктуаци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В информации не должно быть лишних слов, сообщение должно быть кратким, лаконич­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Избегайте неоправданного повтора с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В информации не употребляют таких слов, как «на днях», «недавно»; лучше - «сегодня», в крайнем случае - «вчера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Информация должна быть точной, чтобы не подорвать до­верие к газет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Не забудьте придумать заголовок к заметке, который должен привлечь внимание чита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Он должен быть кратким, но ёмки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Рисунок4"/>
          <p:cNvPicPr/>
          <p:nvPr/>
        </p:nvPicPr>
        <p:blipFill>
          <a:blip r:embed="rId1"/>
          <a:stretch/>
        </p:blipFill>
        <p:spPr>
          <a:xfrm>
            <a:off x="7524720" y="5805360"/>
            <a:ext cx="13906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Рисунок6"/>
          <p:cNvPicPr/>
          <p:nvPr/>
        </p:nvPicPr>
        <p:blipFill>
          <a:blip r:embed="rId1"/>
          <a:stretch/>
        </p:blipFill>
        <p:spPr>
          <a:xfrm>
            <a:off x="2195640" y="98100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962360" y="3357720"/>
            <a:ext cx="560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Рисунок4"/>
          <p:cNvPicPr/>
          <p:nvPr/>
        </p:nvPicPr>
        <p:blipFill>
          <a:blip r:embed="rId2"/>
          <a:stretch/>
        </p:blipFill>
        <p:spPr>
          <a:xfrm>
            <a:off x="7388280" y="5157720"/>
            <a:ext cx="1512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Цель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знакомиться  с правилами подачи информации в замет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учиться писать заметку, следуя закону перевёрнутой пирами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Рисунок4"/>
          <p:cNvPicPr/>
          <p:nvPr/>
        </p:nvPicPr>
        <p:blipFill>
          <a:blip r:embed="rId1"/>
          <a:stretch/>
        </p:blipFill>
        <p:spPr>
          <a:xfrm>
            <a:off x="6948360" y="4869000"/>
            <a:ext cx="1513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Информация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это  сведения о лицах, предметах, фактах, событиях, явлениях и процессах независимо от формы их представления. В газете это текст, по радио – это аудиоматериал, а телевидение предоставляет нам видео-картинк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Рисунок4"/>
          <p:cNvPicPr/>
          <p:nvPr/>
        </p:nvPicPr>
        <p:blipFill>
          <a:blip r:embed="rId1"/>
          <a:stretch/>
        </p:blipFill>
        <p:spPr>
          <a:xfrm>
            <a:off x="7093080" y="5084640"/>
            <a:ext cx="1512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Замет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это разновидность горячей новости. Её содержанием становится отдельный факт, отдельное событие, состояние дел. Она может включать краткое изложение предыстории факта, события или яв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Рисунок4"/>
          <p:cNvPicPr/>
          <p:nvPr/>
        </p:nvPicPr>
        <p:blipFill>
          <a:blip r:embed="rId1"/>
          <a:stretch/>
        </p:blipFill>
        <p:spPr>
          <a:xfrm>
            <a:off x="7093080" y="5084640"/>
            <a:ext cx="1390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7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спомним Редьярда Киплинг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ть у меня шестерка слуг, Проворных, удалы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все, что вижу я вокруг, —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ю я от ни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и по знаку моем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ются в нужд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овут их: Как и Почему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, Что, Когда и Гд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еревод С. Маршака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Рисунок4"/>
          <p:cNvPicPr/>
          <p:nvPr/>
        </p:nvPicPr>
        <p:blipFill>
          <a:blip r:embed="rId1"/>
          <a:stretch/>
        </p:blipFill>
        <p:spPr>
          <a:xfrm>
            <a:off x="7164360" y="5229360"/>
            <a:ext cx="1390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7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Заметка отвечает на основные вопрос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т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ыл участником или виновником события?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изошл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де?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гда?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это было?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чему?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 какой причине?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зульта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Рисунок4"/>
          <p:cNvPicPr/>
          <p:nvPr/>
        </p:nvPicPr>
        <p:blipFill>
          <a:blip r:embed="rId1"/>
          <a:stretch/>
        </p:blipFill>
        <p:spPr>
          <a:xfrm>
            <a:off x="7093080" y="5084640"/>
            <a:ext cx="1512720" cy="9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исунок7"/>
          <p:cNvPicPr/>
          <p:nvPr/>
        </p:nvPicPr>
        <p:blipFill>
          <a:blip r:embed="rId2"/>
          <a:stretch/>
        </p:blipFill>
        <p:spPr>
          <a:xfrm>
            <a:off x="0" y="3859200"/>
            <a:ext cx="3168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инцип перевёрнутой пирами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Объект 3" descr="https://ic.pics.livejournal.com/red_mskt/84909513/48474/48474_original.jpg"/>
          <p:cNvPicPr/>
          <p:nvPr/>
        </p:nvPicPr>
        <p:blipFill>
          <a:blip r:embed="rId1"/>
          <a:srcRect l="19945" t="27366" r="20213" b="5111"/>
          <a:stretch/>
        </p:blipFill>
        <p:spPr>
          <a:xfrm>
            <a:off x="1832040" y="1785960"/>
            <a:ext cx="5470560" cy="4200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Рисунок4"/>
          <p:cNvPicPr/>
          <p:nvPr/>
        </p:nvPicPr>
        <p:blipFill>
          <a:blip r:embed="rId2"/>
          <a:stretch/>
        </p:blipFill>
        <p:spPr>
          <a:xfrm>
            <a:off x="7524720" y="5445000"/>
            <a:ext cx="15130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Нормы об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Говорим по очереди, не перебиваем друг друг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Разводим вопросы и сужд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Говорим по существу вопро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Критикуя – не переходим на личность. Критикуется предложение, но не его авто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buClr>
                <a:srgbClr val="cc0000"/>
              </a:buClr>
              <a:buSzPct val="25000"/>
              <a:buFont typeface="Wingdings" charset="2"/>
              <a:buChar char="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Критикуя – предлагаем свой вариант решения проблем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Рисунок4"/>
          <p:cNvPicPr/>
          <p:nvPr/>
        </p:nvPicPr>
        <p:blipFill>
          <a:blip r:embed="rId1"/>
          <a:stretch/>
        </p:blipFill>
        <p:spPr>
          <a:xfrm>
            <a:off x="7535880" y="5445000"/>
            <a:ext cx="1512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водные данны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? – Михаил С., кличка Бандит Что делал? – убега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де? –  в Парке Культуры и отдыха Когда? –  вчера вечеро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? –  молниенос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чему? –  шлан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? –  сердечный приступ, больница, реанимац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Рисунок4"/>
          <p:cNvPicPr/>
          <p:nvPr/>
        </p:nvPicPr>
        <p:blipFill>
          <a:blip r:embed="rId1"/>
          <a:stretch/>
        </p:blipFill>
        <p:spPr>
          <a:xfrm>
            <a:off x="7164360" y="5229360"/>
            <a:ext cx="1390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9:43:17Z</dcterms:created>
  <dc:creator>WiZaRd</dc:creator>
  <dc:description/>
  <dc:language>en-US</dc:language>
  <cp:lastModifiedBy>Татьяна</cp:lastModifiedBy>
  <dcterms:modified xsi:type="dcterms:W3CDTF">2019-04-03T17:16:45Z</dcterms:modified>
  <cp:revision>23</cp:revision>
  <dc:subject/>
  <dc:title>Школьная форма: за и против</dc:title>
</cp:coreProperties>
</file>